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03632-EC8E-47E4-88D2-37F15251A0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14207-2727-426C-95B8-9D893A4A19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8A7F8-1FEA-4EE1-B2D9-975EF0C694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0183A-DD5A-45C6-9F62-1D9777AABB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EB2016-85E0-4160-8234-A14271E69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D78E34-6144-453F-96ED-3A323F0A7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D4A888-E1F3-418F-B8A6-B051DAA46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2AA2B5-BFE8-4E3F-80D1-E60C71527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1F1BC6-B3EA-4ABD-A079-A3A03CF42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08A7E7-9169-4178-8865-B0B97F21A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0B155D-8099-48A6-8D6D-C0FF980A7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E2895-A3AB-43D9-B202-6212CA3F23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3FA0BF-A6F2-46B8-AB2E-96CF091FF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ED915B-9847-4E03-9C32-7F5A88B44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252146-A573-4D75-9C27-E6FD6D421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05E2FB-F3E8-4C67-82A1-4C83B4196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D49BA8-C64E-4D30-B116-D0191B3C4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CD061-C80F-4C65-85D6-A80918B798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8DE04-E858-4920-9ACD-1FB21C4114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4B4B4-E18C-445A-816F-5614D5A73F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4A64F-AD4E-4553-BBA8-912A00A9DE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E89A6-5772-4FDF-BED1-4AC9776056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51791-EF38-471A-8E74-F93BEC3D89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D69C1-7DD1-49C9-9564-9E3ED4CA78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274B7-335E-4958-A90C-0736DCB23B07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CEB20-4B73-43B4-ABED-EB9A343A7BBB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27780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emo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s examples with data discus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ignette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Provides more details on the spline fitting and algorith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Includes relevant sections from DierckxSpline (199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FF5F4-8DB0-4796-B415-BA650B723E1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90879-D7A2-4EEC-806A-18456A99F33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403F1-DBCC-48DD-9D7E-AA1D9DE7DC4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knots(f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knots(f3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DA7BC-D19A-4D7F-989B-1F9EE127924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9B742-A385-4B00-A38A-DFE5C113AF5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BBF36-1A27-4A0D-8C7D-63345183E57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880B7-754B-4381-8EE4-B9FDD1B8780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for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D1DC6-12CE-4F91-96D7-6989E7AF435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D5BB2-AEA2-49CC-AA41-95C7463FCB9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F450B-5E3C-4683-9BF0-96FB765BADF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48DA4-B56E-4F90-B70E-A7CCB7A3D73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17963-6506-4959-9133-F206E488A61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138A1-DD87-4189-80BF-B4C4CF1A28A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53406-4139-46B9-9EE7-D5026423A99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7-08-18T20:30:08Z</dcterms:modified>
  <cp:revision>162</cp:revision>
  <dc:subject/>
  <dc:title>minSpline: An R Package For Minimal Knot Splines</dc:title>
</cp:coreProperties>
</file>